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C02-CC49-434D-8888-0499F5EC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29F-FDEF-4D8B-B3D0-839A122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AE1-5335-426E-9E8E-AF1BEB29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7F8-8B84-4188-AC04-974F8E02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A5F-3BA7-4996-8CDA-29B70681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E0A-4A85-4546-88EB-0D471F1E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290-EB45-4A2E-82C5-8C07A262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CCC-56A1-43AF-B7C9-60FA793F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08D-4A82-4FBE-84FC-962D863C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D0B-7AF7-4276-8634-A5A17250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5B0-C184-4C05-9C33-4F23AA76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274-F37A-43A7-B5D9-D7E2C10A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41AA-FD93-4638-A5A0-EC164AAABC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8480" y="2133720"/>
            <a:ext cx="479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 Overvi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88620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3886200" cy="57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3960720" cy="230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3962160" cy="7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648320" y="1523880"/>
            <a:ext cx="3695760" cy="2895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648320" y="533520"/>
            <a:ext cx="3720960" cy="99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68840" y="4800600"/>
            <a:ext cx="4213080" cy="1557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ly, exposure to TC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classified according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descriptions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terans selected for stu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0536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19320" y="762120"/>
            <a:ext cx="670536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Classification of TCDD exposure by job descrip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6705360" cy="1435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66880" y="4648320"/>
            <a:ext cx="3429000" cy="129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15200" cy="4876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54100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90512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2784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69343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6934320" cy="1752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43200" y="4419720"/>
            <a:ext cx="3657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705720" cy="1904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09000" y="3703680"/>
            <a:ext cx="46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If not properly done, 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Confounding 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70572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05320" y="2133720"/>
            <a:ext cx="22860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924680" cy="548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34320" y="5715000"/>
            <a:ext cx="1752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29200" y="1676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00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819520"/>
            <a:ext cx="563904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90720" y="2819520"/>
            <a:ext cx="167616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2895480"/>
            <a:ext cx="228600" cy="73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421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4952880"/>
            <a:ext cx="73152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33720" y="5486400"/>
            <a:ext cx="5105160" cy="685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9:44Z</dcterms:modified>
  <cp:revision>209</cp:revision>
  <dc:subject/>
  <dc:title>Slide 1</dc:title>
</cp:coreProperties>
</file>